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089-F0AB-4D50-8B60-263EFF2F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910-AE07-4E41-9CFD-5F0C4D76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A80-C574-464B-8BE1-0D6C77E4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144-E783-4158-B114-D4F60773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E20-8A32-4362-85C1-AB22DF35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B6B-BADD-457B-8535-C45EDC54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B1B-D35D-4345-9306-E931F914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710-208D-49A2-BE5A-FC77EF2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0D5-FD5F-4CE5-99ED-F37761A7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F83-0444-49F5-A700-AA17E599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5E0-2CF0-44D2-A075-DE52E641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EDF-DC30-4E98-B6E5-AC9BAF16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8722-25C9-4534-9BCD-E0BB4E882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s &amp;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3809880" cy="1704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809880" cy="3790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638520" cy="374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Borromean rings; what are they named af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2981160" cy="3714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71640" y="5950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i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3716280"/>
            <a:ext cx="27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fa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5256000" cy="5031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2492280"/>
            <a:ext cx="27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4 pictures in date order (earliest fir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47640" y="4508640"/>
            <a:ext cx="2590920" cy="1682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2706840" cy="2590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724360" y="4581360"/>
            <a:ext cx="259272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162320" cy="4162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24360" y="321300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thi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453200" cy="2746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35280" y="53737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spect ratio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2040" y="522936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title: 'Elements Square-Root of ....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nt: size is 400 by 1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5373720" cy="2405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5280" y="5445000"/>
            <a:ext cx="70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itle: "Texas ...... 13th eigenfunction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for a bonus, what sort of fractal curve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4817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8:55:30Z</dcterms:created>
  <dc:creator>Tim Devereux</dc:creator>
  <dc:description/>
  <dc:language>en-US</dc:language>
  <cp:lastModifiedBy>Tim Devereux</cp:lastModifiedBy>
  <dcterms:modified xsi:type="dcterms:W3CDTF">2008-12-02T22:19:18Z</dcterms:modified>
  <cp:revision>14</cp:revision>
  <dc:subject/>
  <dc:title>Maths &amp; Art</dc:title>
</cp:coreProperties>
</file>